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27B83-7D88-4460-8266-B83278E15DD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minole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minole Ind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o the Seminole Li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minole lived in the southeast region, specifically in the state of Florid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started out in northern Florida, but when the Americans attacked them, the Seminole tribe retreated further south, into the Everglad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o the Seminole Li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minole lived in the southeast region, specifically in the state of Florid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started out in northern Florida, but when the Americans attacked them, the Seminole tribe retreated further south, into the Everglad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are the Seminole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minole people were once part of the creek tri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farmed the southern regions of what is known today as Georgia and Alaba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European settlers arrived, some of the creek people decided to stay behind, while others moved to northern and central Florid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people became known as the Seminole (which means “runaway” or “Wander”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are the Seminole Ind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minole people were once part of the creek tri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farmed the southern regions of what is known today as Georgia and Alab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European settlers arrived, some of the creek people decided to stay behind, while others moved to northern and central Flor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people became known as the Seminole (which means “runaway” or “Wander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id they ea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planted corn, beans, squash and other vegetables and fr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fished and hunted, often catching alligators in the Florida swam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land the Seminole hunted deer , bear, raccoon, squirrel, and bi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athered roots and potato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family owned a vegetable gard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n was an important staple in the Seminole di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often used to make a corn dish called hominy or it was ground into meal to make cornbrea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d they e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planted corn, beans, squash and other vegetables and fr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fished and hunted, often catching alligators in the Florida swam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land the Seminole hunted deer , bear, raccoon, squirrel, and bi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athered roots and potat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family owned a vegetable gar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n was an important staple in the Seminole di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as often used to make a corn dish called hominy or it was ground into meal to make cornb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id they wea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ore colorful cotton clothing decorated with striped or plaid desig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omen wore long-sleeved blouses and skirts that touched the flo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e necklaces made of glass bea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common for Seminole women to wear several pounds of beaded necklaces that reached all the way to her 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 wore colorful shirts and plaid turbans on their hea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weather was cold, men wore coats with ruffles called long shir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d they wea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ore colorful cotton clothing decorated with striped or plaid desig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omen wore long-sleeved blouses and skirts that touched the fl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e necklaces made of glass be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as common for Seminole women to wear several pounds of beaded necklaces that reached all the way to her 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 wore colorful shirts and plaid turbans on their he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weather was cold, men wore coats with ruffles called long shi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Chicke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minole living near the Everglades built open-sided wooden huts called chicke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hickee was built on a platform raised about 3 feet off the swampy ground, and it had a thatched roof constructed of palmetto le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oof kept out r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minole slept in hammock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minole spent most of their time outdo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Chicke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minole living near the Everglades built open-sided wooden huts called chick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hickee was built on a platform raised about 3 feet off the swampy ground, and it had a thatched roof constructed of palmetto le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of kept out 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minole slept in hammoc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minole spent most of their time outdo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ick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ck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id the Seminoles trave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made flat dugout canoes from hollowed-out cypress lo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steered the boats with poles rather than padd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id the Seminoles trave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ade flat dugout canoes from hollowed-out cypress lo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steered the boats with poles rather than padd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ere the Seminole villages lik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s made up of many famil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milies in the villages were related  through their moth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women and children belonged to the same clan (vocabulary wor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minole women worked near camp, taking care of the children, cooking, sewing, and garde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minole men hunted, fishing, and farm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early summer, the Seminole prepared for an important festival- the green corn d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minole villages came together to celebrate the festival by dancing, playing games, and feas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aming ceremony was held that year at the green corn dance festiv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ere the Seminole villages li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 made up of many fami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in the villages were related  through their m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women and children belonged to the same clan (vocabulary wor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minole women worked near camp, taking care of the children, cooking, sewing, and gard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minole men hunted, fishing, and fa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early summer, the Seminole prepared for an important festival- the green corn d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minole villages came together to celebrate the festival by dancing, playing games, and fea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aming ceremony was held that year at the green corn dance festi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75FF-0C27-4F11-A28E-C09F7DED1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E4CC-0DB6-4EE0-93B2-5D695D687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9CF7-F124-4C79-8357-23731DF06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F865-DB64-4572-8FDA-9BDE7D500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8C39-F0E8-443C-8368-D58FAB8E6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ACAB-DF9D-4541-9EFE-8AE51FCEF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9246-8229-499D-BD02-15F92B95C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D775-909E-49C6-BCB5-85633B33C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4B75-2A20-4EC2-A2F3-5297DB9D1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FC13-7BF2-4A0E-AB1E-083644D5F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749F-C5E8-408A-8793-BE968D050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2774-7E20-4D71-9A56-9B5109AB1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1CCD0-A6FC-435E-B131-C0BA472A57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entury Schoolbook"/>
              </a:rPr>
              <a:t>Seminole India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seminole-indians-2"/>
          <p:cNvPicPr/>
          <p:nvPr/>
        </p:nvPicPr>
        <p:blipFill>
          <a:blip r:embed="rId1"/>
          <a:stretch/>
        </p:blipFill>
        <p:spPr>
          <a:xfrm>
            <a:off x="3124080" y="1828800"/>
            <a:ext cx="3022560" cy="468648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Schoolbook"/>
              </a:rPr>
              <a:t>Where do the Seminole Li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The Seminole lived in the southeast region, specifically in the state of Flori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They started out in northern Florida, but when the Americans attacked them, the Seminole tribe retreated further south, into the Everglades.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Who are the Semino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Indi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The Seminole people were once part of the creek tri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They farmed the southern regions of what is known today as Georgia and Alab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When European settlers arrived, some of the creek people decided to stay behind, while others moved to northern and central Flor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These people became known as the Seminole (which means “runaway” or “Wander”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What did they e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They planted corn, beans, squash and other vegetables and fr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They fished and hunted, often catching alligators in the Florida swa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On land the Seminole hunted deer , bear, raccoon, squirrel, and bi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The gathered roots and potat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Each family owned a vegetable ga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Corn was an important staple in the Seminole di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It was often used to make a corn dish calle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hominy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or it was ground into meal to make cornb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Schoolbook"/>
              </a:rPr>
              <a:t>What did they wea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They wore colorful cotton clothing decorated with striped or plaid desig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The women wore long-sleeved blouses and skirts that touched the fl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Wore necklaces made of glass b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It was common for Seminole women to wear several pounds of beaded necklaces that reached all the way to her 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Men wore colorful shirts and plaid turbans on their h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When the weather was cold, men wore coats with ruffles called long shi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Chicke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The Seminole living near the Everglades built open-sided wooden huts called chick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 chickee was built on a platform raised about 3 feet off the swampy ground, and it had a thatched roof constructed of palmetto le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The roof kept out 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The Seminole slept in hammoc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The Seminole spent most of their time outdo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Schoolbook"/>
              </a:rPr>
              <a:t>Chick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9" descr="miccos08"/>
          <p:cNvPicPr/>
          <p:nvPr/>
        </p:nvPicPr>
        <p:blipFill>
          <a:blip r:embed="rId1"/>
          <a:stretch/>
        </p:blipFill>
        <p:spPr>
          <a:xfrm>
            <a:off x="990720" y="1295280"/>
            <a:ext cx="7810560" cy="429588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How did the Seminoles trave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They made flat dugout canoes from hollowed-out cypress lo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They steered the boats with poles rather than padd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Schoolbook"/>
              </a:rPr>
              <a:t>What were the Seminole villages li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Was made up of many fami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Families in the villages were related  through their m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All women and children belonged to the same clan (vocabulary wo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Seminole women worked near camp, taking care of the children, cooking, sewing, and garde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Seminole men hunted, fishing, and far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In the early summer, the Seminole prepared for an important festival- </a:t>
            </a: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the green corn d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Seminole villages came together to celebrate the festival by dancing, playing games, and fea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The naming ceremony was held that year at the green corn dance festi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1T23:05:39Z</dcterms:created>
  <dc:creator>Minter, Erin</dc:creator>
  <dc:description/>
  <dc:language>en-US</dc:language>
  <cp:lastModifiedBy>Legion</cp:lastModifiedBy>
  <dcterms:modified xsi:type="dcterms:W3CDTF">2017-07-05T12:49:08Z</dcterms:modified>
  <cp:revision>11</cp:revision>
  <dc:subject/>
  <dc:title>Seminole Indians</dc:title>
</cp:coreProperties>
</file>